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4E30-2FAC-472C-9234-2B7A2ED4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3B2F-70AC-49C5-A979-1C3E95B6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4C5F-587E-4D42-9C75-D5ECBD4A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4514-67B9-4570-B552-52ACB910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E402-614F-40B5-A694-2C8FC7FC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768D-9B44-43CA-8D51-E5285644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42E6-711D-43D1-A450-D09B8AD4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B50-B41F-400E-B1DA-A117F9BF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C84D-1D30-44DB-AFEA-B6529FBC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8CF5-C135-4D06-B88A-1BB7E88B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1C90-83ED-4A2A-8AC4-226652D6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237C-49D7-4517-8776-72F02EC6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E733-05FF-4EF7-8F56-FBD21FD108A8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26 Skôr ako Pán, náš Spasite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ôr ako Pán, náš Spas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hriechy sveta na smrť ši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lieb pri večeri s vďakou vza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učeníkom podá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lieb hodu tohto znakom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Boh svet až tak mil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Syna svojho na smrť d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 človek večný život m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Pán za kali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ďaku vzd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iť z neho učeníkom d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znak, že v jeho krvi 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j novej zmluvy znam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chce raz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Pánom stolo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rť jeho má vždy zvestova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čakať, kým sa nezjav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vojich potom oslávi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5:39:38Z</dcterms:modified>
  <cp:revision>31</cp:revision>
  <dc:subject/>
  <dc:title>Je veľký náš Pán, on slávy je Kráľ Nech do všetkých strán  spev vrúcnych znie chvál.</dc:title>
</cp:coreProperties>
</file>